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A3F-F880-49A4-98CD-F8A5C3B8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AB6-5D4B-41F7-BCEB-80F717E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0B9-DFBA-4241-80DD-5C4E3287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949-8C44-4637-9963-C90C4433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32E-FAE5-4705-A13E-B039B1F4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16E-DA83-43EE-97E0-EC9853F5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A96-673E-4DA6-B112-61A4F7E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39E-AFA8-45E3-9173-F41DA8EA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10D-E086-4023-8227-981A778B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F33-6B2F-4AA2-85F7-BDCCB221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313-1B5E-49C9-91D9-892C8A81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8FF-C49F-4313-9A4F-AAF682BF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73AD-FD3C-47EE-87AA-3B6575A3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65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iología de Sistemas, Agosto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9880"/>
            <a:ext cx="8458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Ocampo Garc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dad de Medicina del Sueño, Neurología y Neurocirugía, HospitalClí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FB, ICBM, Facultad de Medicina, U.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2880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STEMAS REGULA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5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6933960" cy="520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33720" y="571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 REGIONES EN SENTIDO A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4308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4495680"/>
            <a:ext cx="556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 REGIONES EN PLANO CO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IVENT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57200"/>
            <a:ext cx="73911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RADAS (AFERENCIAS) AL HIPOTAL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UY GENÉRIC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133720"/>
            <a:ext cx="7084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Núcleo tracto solitario (viscero sens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Formación reticular (dolor, 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Retina ( ciclo luz-osc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Sistema límbico: amígdala, hipocampo, cx olf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476280"/>
            <a:ext cx="830592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S (EFERENCIAS) DEL HIPOTAL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NEUROHUMO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 HIPOTÁLAMO-HIPÓF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NE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icular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onco encefálico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NA (pregangl,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simpático y parasimp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a Terminalis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mígdala (limb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milotalámico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Tálamo anterior (ale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LPO (Ventrolat. Preóptico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IST. MOD. GRAL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N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L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SEROTONIN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RAF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HISTAM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TUBERO M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8280" y="404640"/>
            <a:ext cx="83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s NEUROHUMORALES: EJE HIPOTÁLAMO-HIPÓF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773360"/>
            <a:ext cx="8273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GNOCELULARES:                                                                 N. Paraventric. y Supraóptico: liberan  Vasopresina y Oxitocina en Neurohipófisis a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VOCELULARES: Liberan Hormonas liberadoras de Hormonas Hipofisiarias (Adenohipófisis)                                Liberan neurohormonas en sistemas P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523880"/>
          <a:ext cx="9144000" cy="500868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icotrophin-releasing hormone (C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adrenocorticotrophic hormone (ACTH)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yrotrophin-releasing hormone (T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thyroid-stimulating hormone (TSH)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otrophin-releasing hormone (Gn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luteinising hormone (LH) and follicle-stimulating hormone (FSH)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tosta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s growth hormone (GH) secretion (affects prolactin and TSH secre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-hormone-releasing hormone (GH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GH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actin-releasing factor (PR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s prolactin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actin-inhibitory hormone (PI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s prolactin se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09480" y="22860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urohormonas liberadas a la circulación 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potálamo-Hipofis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8000" y="404640"/>
            <a:ext cx="891540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REGULADOS PO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OTÁ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. BALANCE HIDRIC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D Y RETENCIÓN DE AGUA (VOLEM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. PRESION ARTERIAL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TO CARDIACO Y TONO VAS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. BALANCE ENERGETICO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ETITO Y CONSUMO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ERGÉ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ERMOST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ICLO SUEÑO VIGI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. REPRODUCCIÓN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ORMONA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. RITMOS BI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6114960" cy="5708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19320" y="6248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dvP4B7F0D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dvP4B7F0D"/>
              </a:rPr>
              <a:t>Badman and  Flier, Science 304: 1909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1413000"/>
            <a:ext cx="28195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TROL NEUROHUMORALDEL APE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S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IM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J. APIP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M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st. G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M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465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5181480"/>
            <a:ext cx="726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or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REGULADA TEMPERTURA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CONTROLADA: PROD O DISIP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57200" y="609480"/>
            <a:ext cx="8381880" cy="5439960"/>
            <a:chOff x="457200" y="609480"/>
            <a:chExt cx="8381880" cy="54399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8381880" cy="49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175400" y="5589720"/>
              <a:ext cx="64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bre: cambia la norma a la cual el sistema regul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523880"/>
            <a:ext cx="78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ude Bernard (s. XIX) fundador de la medicina experimental (Fisiología mod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stemas abiertos, Inform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ejos de ser indiferentes al mundo exterior, los animales superiores mantienen una precisa e informada relación con este, de tal foma que el equilibrio ocurre por una contínua y delicada compensación, establecida por el más sensible de los balanc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2880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12-6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4672080" cy="5905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457200"/>
            <a:ext cx="4338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FECTORES SNA 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PÓF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CLEO MEDIAL PREOPTICO HIPOTALAM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URONAS CENTRALES TERMOCEPTORAS:           SENSIBLES AL FRIO     SENSIBLES A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1066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STEMA NERVIOSO AUTO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onar múltiple, generalizado, relativamente lento,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PONSABLE DE RESPUESTAS REFLEJAS AUTONO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457200"/>
            <a:ext cx="716292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STEMA NERVIOSO AUTONO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ula (cortezas del dolor y visce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structuras generadoras de respuestas aut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ipotálamo (N. Paraventricu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st. Gris Periacuedu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lbo Ventro 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A perif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stema Parasimpático (Cráneo-sac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stema simpático (Tóraco-lumb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stema Nervioso Ent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exo de Auerbach (mientér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exo de Meissner (submuco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981000"/>
            <a:ext cx="8001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AS AFERENTES VISC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Sistema sensorial de nervios craneanos y sacros (Parasimp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es Crane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rvio trigemin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V) sensación visceral de órganos de la cab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cial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VII): gusto (leng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losofarínge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IX): sensación visceral del paladar duro y gusto del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ladar y orofaringe superior, cuerpo carotideo (quimio receptores), sen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rotideo (barorecept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ag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X) sensation visceral de orofaringe (incluido el gusto) , laringe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áquea, esófago, órganos torácicos y abdom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édula Sacra S2-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isceras pélvicas inervadas por segmentos S2 a 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391080" cy="3543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00720" y="5877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onturek y cols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76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ferencias parasimpáticas son polimod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15920"/>
            <a:ext cx="8569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S AFERENCIAS DE PARES CRANE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, VII, IX Y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rminan topográficamente e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úcleo del Tracto Solitar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66247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6028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. Sistema visceral espinal aferente (Simpát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tran al SNC (médula) a través de nervios espinales y transfieren diversas modalidades: nociceptivas, temperatura, distención y quimio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8038800" cy="2657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2360" y="5013360"/>
            <a:ext cx="172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3716280"/>
            <a:ext cx="1727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349360"/>
            <a:ext cx="431640" cy="1800360"/>
          </a:xfrm>
          <a:prstGeom prst="line">
            <a:avLst/>
          </a:prstGeom>
          <a:ln w="540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5877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zurszewki y cols.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9690" b="11507"/>
          <a:stretch/>
        </p:blipFill>
        <p:spPr>
          <a:xfrm>
            <a:off x="1547640" y="1557360"/>
            <a:ext cx="4969080" cy="488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18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S SISTEMAS VISCERALES A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ático y Parasimp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vergen en el núcleo del tracto sol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61800" y="623736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avarro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38088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S EFERENTES DEL SNA DE DOS NEU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RONA PREGANGLION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A en S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ELINICAS DEL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AMIELI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RONA POST-GANGLION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A en GANGLIO AUT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ERVA ORGAN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IELÍ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AYOR PARTE DE LAS VISCERAS RECIBEN DOBLE INERVACION: Simpática y Parasimp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3280" y="404640"/>
            <a:ext cx="64008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. EFECTORES DEL SISTEMA NERVIOSO AUTON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.MUSCULO L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GLÁNDULAS EXOCRIN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SISTEMA EXCITO-CONDUCTOR CARDIACO 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.MUSCULO CARDÍA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.GLANDULA ENDOCRINA (MEDUL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RARRE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.MUSCULO PILOERECTO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7. TEJIDO ADIPOS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(EN CONTRAPOSICION A  RESPUESTAS SOMATICAS: EL EFECTOR SOLO SON LOS MUSCULOS ESQUELETIC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1-1" descr=""/>
          <p:cNvPicPr/>
          <p:nvPr/>
        </p:nvPicPr>
        <p:blipFill>
          <a:blip r:embed="rId1"/>
          <a:srcRect l="0" t="0" r="0" b="47975"/>
          <a:stretch/>
        </p:blipFill>
        <p:spPr>
          <a:xfrm>
            <a:off x="468360" y="3860640"/>
            <a:ext cx="81532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76360" y="1197000"/>
            <a:ext cx="63244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Walter B. Cannon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(1871-19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Las reacciones fisiológicas coordinadas que mantienen la mayoría de los estados estacionarios en el organismo son tan complejas, y tan peculiares al organismo vivo, que sugieren el empleo de una designación específica para estos estados: </a:t>
            </a: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homeostasis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1066680"/>
            <a:ext cx="4343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simp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anglionar l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tganglionar c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p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anglionar c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tganglionar l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602160"/>
            <a:ext cx="861048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STEMA SIMP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GANGLIONAR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A INTERMEDIO- LATER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1 A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OSGANGLIONAR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DENA PARAVERTE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. PREVERTEB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ULA SUPRAR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8608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1-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172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990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NEURONAS PREGANGLIONARES SIMPATICAS PROYECTAN A CÉLULAS NEUROHUMORALES DEL LA MÉDULA SUPRARR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4048200" cy="3124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48680" y="5950080"/>
            <a:ext cx="72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ELULA CROMAFIN: NEURONA POSTGANGLIONAR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31471" t="0" r="0" b="8974"/>
          <a:stretch/>
        </p:blipFill>
        <p:spPr>
          <a:xfrm>
            <a:off x="5003640" y="333360"/>
            <a:ext cx="3843360" cy="5764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520" y="549360"/>
            <a:ext cx="37512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SIMP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GANGLIONAR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LUMNA INTERMEDIO- LATERAL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1 A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GANGLIONAR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 CADENA PARAVERTEBRAL    (base cráneo-cocc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G. PREVERTEBRALES         (celiaco, mesentéricos sup e inf, renal, testiculo/ovar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 MEDULA SUPRARRENAL   (ganglio modifi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61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atthews G. , “Neurobiology” (Ia. E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05320" y="609480"/>
            <a:ext cx="54864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FERENCIAS SISTEMA PARASIMP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GANGLIONAR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TGANGL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Edinger-Westphal (III par)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G.  C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Salivatorio sup. y lacrimal(VII par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. Esfenopala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. ótico (Paróti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salivatorio inf (IX par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. submandib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. dorsal del vago y ambiguo (X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óra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bdomen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Pl. Auerbach y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iss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2-S4 (col. IML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lon distal,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rogen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904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1-11" descr=""/>
          <p:cNvPicPr/>
          <p:nvPr/>
        </p:nvPicPr>
        <p:blipFill>
          <a:blip r:embed="rId1"/>
          <a:srcRect l="0" t="0" r="43652" b="0"/>
          <a:stretch/>
        </p:blipFill>
        <p:spPr>
          <a:xfrm>
            <a:off x="304920" y="228600"/>
            <a:ext cx="3085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9785"/>
          <a:stretch/>
        </p:blipFill>
        <p:spPr>
          <a:xfrm>
            <a:off x="2771640" y="836640"/>
            <a:ext cx="5730840" cy="540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310880" y="63817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avarro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005360"/>
            <a:ext cx="237492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mpático colinérgico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lándulas Sudoríparas    Vasodilat. Arterial                   Periostio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304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SORES DEL 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inapsi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eurotransmisor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a Sinapsis                                                                                   Preganglion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etilcolina (PS y S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icotínico (PS y S) Postgang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a Sinapsis                                                                                Postganglion-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etilcolina (PS)                    Muscarínico                                     Organo Blan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radrenalina (S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renér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mportante: son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tabotr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5591160" cy="6191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05720" y="914400"/>
            <a:ext cx="2057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í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neurona postgangli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al cat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d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g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3456000" cy="6248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29200" y="685800"/>
            <a:ext cx="3200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es en organos blanco simp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es adre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3352680"/>
            <a:ext cx="3353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- protein coupled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n transmembrane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ee extracell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ee intracel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 extracellular N-terminal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 intracellular C-terminal 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990720"/>
            <a:ext cx="83552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ptores adrenérg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fa-1: contracción de músculo liso (vasos, esfínte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a-1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az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Sistema excitoconductor : aumenta frecuencia cardíaca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Músculo cardíaco aumenta fuerza contractil (inotrópì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a-2: relajación de músculo liso (gastrointetsinal, vías respirato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a-3: liberación de ácidos grasos en tejido adi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1625400"/>
            <a:ext cx="647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berné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Κυβερνήτη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uberni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obie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e del timon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udio de las relaciones dinámicas entre los componentes de un sistema y los mecanismo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480" y="40356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ber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ner (1894-196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692280"/>
            <a:ext cx="3200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es en organos blan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tor muscarí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429000"/>
            <a:ext cx="78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anita muscaria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ngo venenoso donde se obtiene la muscarina que ACTIVA los receptores (efecto denominado parasimpaticomimético)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eptores ubicados en órganos blanco del SNA, principal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ceptores M2: corazó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stema excitoconductor (disminuye frecuencia cardíaca)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úsculo cardíaco (disminuye fuerza contráctil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ceptores M3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úsculo liso (Tracto G.I, vasos.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lándulas Exocrin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457200"/>
            <a:ext cx="800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.N.A ES EFECTOR DEL HIPOTAL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5 grandes funciones regulato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Presión arterial (tono vasomotor función cardia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emperatura corporal (vasodilatación cutánea, sudo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tabolismo energético (alimentación, digest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eproducción (apare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strés (redistribución del flujo sanguíneo, 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rarre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3360"/>
            <a:ext cx="77770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ático: CATABOLICO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ponde a crisis. Moviliza al organismo para una emergencia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impátic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BOLICO, Digestión, almacenamiento energé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LACION FUNCIONAL ENTRE PARASIMPATICO Y SIMP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. “ANTAGONISTA”: PUPILA,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. COMPLEMENTARIO: SISTEMA UROGEN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. “AGONISTA”: SALIVA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S: SALIVA ACU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S: SALIVA M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5748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11-1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5440320" cy="5751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66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AUTONOMICO DE FUNCIÓN CARDÍ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1341360"/>
            <a:ext cx="2592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alza de 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estimulan barorreceptores carotíde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activa via parasimpática vagal-&gt; acetilcolina baja frecuencia cardía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inhibe vía simpática  disminuyendo contractilidad y frecuencia cardía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76360" y="1052640"/>
            <a:ext cx="6408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spuesta de defensa o de Estrés agudo (fight or fl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driasis (pupilas dilat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oca se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quicardia elevada, inotropismo aumen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roncodil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sodilatación: cardio-pulmonar y musculos esquel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soconstricción: en piel, Tracto GI y ve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iperglic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iloer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doración profusa (previene hiperterm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021280" cy="3301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708360" y="414972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Konturek et al. J Phys Pharm 54:293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33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STEMA NERVIOSO ENTERICO (“GUT BRAIN”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508640"/>
            <a:ext cx="79250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stema nervioso entérico:                                                             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lexo Mientérico  (Auerba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lexo Submucoso (Meissner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4026" t="6904" r="5839" b="25807"/>
          <a:stretch/>
        </p:blipFill>
        <p:spPr>
          <a:xfrm>
            <a:off x="2209680" y="1295280"/>
            <a:ext cx="4496040" cy="438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38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SISTEMA ABIERTO POSEE ENTRADAS Y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ADAS -&gt; TRANSFORMACIÓN-&gt;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BUCLE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ADAS -&gt; TRANSFORMACIÓN-&gt; SALIDA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026" t="31480" r="6521" b="25807"/>
          <a:stretch/>
        </p:blipFill>
        <p:spPr>
          <a:xfrm>
            <a:off x="2133720" y="2971800"/>
            <a:ext cx="4457520" cy="278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760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752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eedback 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0"/>
            <a:ext cx="8899560" cy="6858000"/>
            <a:chOff x="152280" y="0"/>
            <a:chExt cx="8899560" cy="6858000"/>
          </a:xfrm>
        </p:grpSpPr>
        <p:sp>
          <p:nvSpPr>
            <p:cNvPr id="60" name=""/>
            <p:cNvSpPr/>
            <p:nvPr/>
          </p:nvSpPr>
          <p:spPr>
            <a:xfrm>
              <a:off x="1547640" y="4076640"/>
              <a:ext cx="2880000" cy="209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19280" y="4435560"/>
              <a:ext cx="2663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MPARAD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Nivel de Refer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8360" y="1484280"/>
              <a:ext cx="273528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92720" y="1844640"/>
              <a:ext cx="2519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ENS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uestr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19280" y="1557360"/>
              <a:ext cx="2519280" cy="1803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90560" y="1911240"/>
              <a:ext cx="2330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NTROLADOR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f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4500720" y="3716280"/>
              <a:ext cx="1512720" cy="1728720"/>
            </a:xfrm>
            <a:custGeom>
              <a:avLst/>
              <a:gdLst>
                <a:gd name="textAreaLeft" fmla="*/ 0 w 1512720"/>
                <a:gd name="textAreaRight" fmla="*/ 1513080 w 151272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11280" y="3276720"/>
              <a:ext cx="1008360" cy="838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64000" y="260280"/>
              <a:ext cx="1366920" cy="165600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08720" y="333360"/>
              <a:ext cx="2087640" cy="863640"/>
            </a:xfrm>
            <a:custGeom>
              <a:avLst/>
              <a:gdLst>
                <a:gd name="textAreaLeft" fmla="*/ 0 w 2087640"/>
                <a:gd name="textAreaRight" fmla="*/ 2088000 w 2087640"/>
                <a:gd name="textAreaTop" fmla="*/ 111960 h 863640"/>
                <a:gd name="textAreaBottom" fmla="*/ 751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96000" y="5493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08720" y="4437000"/>
              <a:ext cx="273672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</a:rPr>
                <a:t>+/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01080" y="260280"/>
              <a:ext cx="0" cy="5977080"/>
            </a:xfrm>
            <a:prstGeom prst="line">
              <a:avLst/>
            </a:prstGeom>
            <a:ln w="73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8920" y="333360"/>
              <a:ext cx="0" cy="5977080"/>
            </a:xfrm>
            <a:prstGeom prst="line">
              <a:avLst/>
            </a:prstGeom>
            <a:ln w="73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7131600" y="5593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99"/>
                  </a:solidFill>
                  <a:latin typeface="Times New Roman"/>
                </a:rPr>
                <a:t>Limite del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4720" y="404640"/>
              <a:ext cx="1368360" cy="792360"/>
            </a:xfrm>
            <a:prstGeom prst="rightArrow">
              <a:avLst>
                <a:gd name="adj1" fmla="val 50000"/>
                <a:gd name="adj2" fmla="val 43174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1280" y="0"/>
              <a:ext cx="2952720" cy="1752480"/>
            </a:xfrm>
            <a:prstGeom prst="rightArrow">
              <a:avLst>
                <a:gd name="adj1" fmla="val 50000"/>
                <a:gd name="adj2" fmla="val 4212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6084360" y="1268280"/>
              <a:ext cx="1008360" cy="432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7400" y="358128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ÑAL DE 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280" y="4343400"/>
              <a:ext cx="1582920" cy="1655640"/>
            </a:xfrm>
            <a:custGeom>
              <a:avLst/>
              <a:gdLst>
                <a:gd name="textAreaLeft" fmla="*/ 197640 w 1582920"/>
                <a:gd name="textAreaRight" fmla="*/ 1385280 w 1582920"/>
                <a:gd name="textAreaTop" fmla="*/ 414000 h 1655640"/>
                <a:gd name="textAreaBottom" fmla="*/ 12420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2880" y="496080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JU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0000" y="62064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51640" y="6206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5736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os del Sistemas de Control homeostá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Sensor (variable regul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vías aferentes (feed-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Centro integrador (compara con norm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Vías eferente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ñal de error: “feed-forward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 Efector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controlad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 (set point) puede ser modul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Sistemas de Control Superior (p.ej: S. Nervioso C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atología (bacterias modifican norma de 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53352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IPOTA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N CENTRO INTEGRADOR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OMEOSTA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56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A 4 GRAMOS (0.3% DEL ENCEFA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284640"/>
            <a:ext cx="7777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POTALAMO MODULA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 SISTEMA NERVIOSO AUTONOMO                               2. EJE HIPOTÁLAMO-HIPÓFISIS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3. CONDUCTAS HOMEOSTÁTICAS o MOTIVAD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CRÍTICAS PARA SUPERVIVENCIA) BEBIDA, ALIMENTACION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PRODUCCIÓN, CICLO SUEÑO-VIGILIA, ESTRESS AGUDO        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RITMOS BI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0:30:22Z</dcterms:created>
  <dc:creator>Ennio Vivaldi</dc:creator>
  <dc:description/>
  <dc:language>en-US</dc:language>
  <cp:lastModifiedBy>Ennio Vivaldi</cp:lastModifiedBy>
  <dcterms:modified xsi:type="dcterms:W3CDTF">2006-08-18T21:18:38Z</dcterms:modified>
  <cp:revision>45</cp:revision>
  <dc:subject/>
  <dc:title>Sin título de diapositiva</dc:title>
</cp:coreProperties>
</file>